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wmf" ContentType="image/x-wmf"/>
  <Override PartName="/ppt/media/image52.png" ContentType="image/png"/>
  <Override PartName="/ppt/media/image50.png" ContentType="image/png"/>
  <Override PartName="/ppt/media/image46.png" ContentType="image/png"/>
  <Override PartName="/ppt/media/image45.wmf" ContentType="image/x-wmf"/>
  <Override PartName="/ppt/media/image36.png" ContentType="image/png"/>
  <Override PartName="/ppt/media/image3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55.wmf" ContentType="image/x-wmf"/>
  <Override PartName="/ppt/media/image3.png" ContentType="image/png"/>
  <Override PartName="/ppt/media/image15.png" ContentType="image/png"/>
  <Override PartName="/ppt/media/image18.wmf" ContentType="image/x-wmf"/>
  <Override PartName="/ppt/media/image57.png" ContentType="image/png"/>
  <Override PartName="/ppt/media/image20.wmf" ContentType="image/x-wmf"/>
  <Override PartName="/ppt/media/image63.png" ContentType="image/png"/>
  <Override PartName="/ppt/media/image4.wmf" ContentType="image/x-wmf"/>
  <Override PartName="/ppt/media/image59.png" ContentType="image/png"/>
  <Override PartName="/ppt/media/image62.wmf" ContentType="image/x-wmf"/>
  <Override PartName="/ppt/media/image22.png" ContentType="image/png"/>
  <Override PartName="/ppt/media/image24.jpeg" ContentType="image/jpeg"/>
  <Override PartName="/ppt/media/image61.png" ContentType="image/png"/>
  <Override PartName="/ppt/media/image25.wmf" ContentType="image/x-wmf"/>
  <Override PartName="/ppt/media/image64.png" ContentType="image/png"/>
  <Override PartName="/ppt/media/image27.png" ContentType="image/png"/>
  <Override PartName="/ppt/media/image30.wmf" ContentType="image/x-wmf"/>
  <Override PartName="/ppt/media/image26.wmf" ContentType="image/x-wmf"/>
  <Override PartName="/ppt/media/image28.wmf" ContentType="image/x-wmf"/>
  <Override PartName="/ppt/media/image23.wmf" ContentType="image/x-wmf"/>
  <Override PartName="/ppt/media/image51.jpeg" ContentType="image/jpeg"/>
  <Override PartName="/ppt/media/image58.png" ContentType="image/png"/>
  <Override PartName="/ppt/media/image60.png" ContentType="image/png"/>
  <Override PartName="/ppt/media/image2.png" ContentType="image/png"/>
  <Override PartName="/ppt/media/image56.jpeg" ContentType="image/jpeg"/>
  <Override PartName="/ppt/media/image10.wmf" ContentType="image/x-wmf"/>
  <Override PartName="/ppt/media/image29.wmf" ContentType="image/x-wmf"/>
  <Override PartName="/ppt/media/image11.png" ContentType="image/png"/>
  <Override PartName="/ppt/media/image48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19.png" ContentType="image/png"/>
  <Override PartName="/ppt/media/image7.png" ContentType="image/png"/>
  <Override PartName="/ppt/media/image41.wmf" ContentType="image/x-wmf"/>
  <Override PartName="/ppt/media/image13.png" ContentType="image/png"/>
  <Override PartName="/ppt/media/image53.wmf" ContentType="image/x-wmf"/>
  <Override PartName="/ppt/media/image9.wmf" ContentType="image/x-wmf"/>
  <Override PartName="/ppt/media/image39.wmf" ContentType="image/x-wmf"/>
  <Override PartName="/ppt/media/image31.wmf" ContentType="image/x-wmf"/>
  <Override PartName="/ppt/media/image32.wmf" ContentType="image/x-wmf"/>
  <Override PartName="/ppt/media/image34.png" ContentType="image/png"/>
  <Override PartName="/ppt/media/image42.png" ContentType="image/png"/>
  <Override PartName="/ppt/media/image43.wmf" ContentType="image/x-wmf"/>
  <Override PartName="/ppt/media/image4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900-9D40-4D69-8545-111748AD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C963-F360-4492-8962-6A8419DE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A40-EBC9-4BBC-979F-740FC51C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2C8-B208-4A59-AD26-586A1BEA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4575-2F7C-446A-85D6-2AD81968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598-C478-4511-BDE9-302BD6A3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38D-73F1-443A-B6F0-51AB2E21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76E0-BDBB-4F63-80B7-3EF54CB0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741-BFA7-40AC-AA4F-5ECC5756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1602-763E-4B30-A90D-A9F8D4FA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B06-D470-4494-A526-07847D44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F8C-C557-416C-A50E-9D791BD3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6A63-B8B8-46EF-9113-B91567B92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0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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nd the US Neutrino Programme</a:t>
            </a:r>
            <a:br>
              <a:rPr sz="36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467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lie Camill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N,  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R Neut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IPNO Orsay, 4 octobre 200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NO</a:t>
            </a:r>
            <a:r>
              <a:rPr b="0" lang="en-US" sz="4000" spc="-1" strike="noStrike">
                <a:solidFill>
                  <a:srgbClr val="ff0066"/>
                </a:solidFill>
                <a:latin typeface="Symbol"/>
                <a:ea typeface="Symbol"/>
              </a:rPr>
              <a:t>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A Det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45400" y="2362320"/>
            <a:ext cx="2298600" cy="3962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5867280" cy="3656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8600" y="60948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y active detector consisting of alternating plane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izontal and vertical 15.7m long plastic PVC tubes fill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liquid scintillator (BC 517L):  Total mas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5kt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ube viewed by a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loop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LS fibre  both ends of whi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read by a  single avalanche photodiode (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P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28600" y="5105160"/>
            <a:ext cx="838080" cy="6094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0400" y="548640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7440" y="914400"/>
            <a:ext cx="101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760 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2590920"/>
            <a:ext cx="0" cy="358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38880" y="6172200"/>
            <a:ext cx="9144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53280" y="2590920"/>
            <a:ext cx="0" cy="358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200400"/>
            <a:ext cx="1278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iO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o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VC tu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400800" y="2971440"/>
            <a:ext cx="76212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59436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ubes are wide enough (6 cm) to allow large bending radius and no damage to fibre </a:t>
            </a:r>
            <a:r>
              <a:rPr b="0" lang="en-US" sz="20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 loop is a “perfect” mi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valanche Photodi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6720" y="1600200"/>
            <a:ext cx="31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amamatsu 32 APD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4114800"/>
            <a:ext cx="3460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ixel size 1.8mm x 1.05m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Fibre 0.8mm diame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perating voltage 400 Vo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ain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perating temperature: -15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reduces no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1143000"/>
            <a:ext cx="0" cy="533520"/>
          </a:xfrm>
          <a:prstGeom prst="line">
            <a:avLst/>
          </a:prstGeom>
          <a:ln w="38160">
            <a:solidFill>
              <a:srgbClr val="3333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080" y="68580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563868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sic for APD’s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5 p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520" y="2050920"/>
            <a:ext cx="4343400" cy="2365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2361960" y="1981080"/>
            <a:ext cx="759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057040" y="3581280"/>
            <a:ext cx="22860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502080" cy="4056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3886200" y="3733920"/>
            <a:ext cx="1828800" cy="18288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y APD’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9907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e quantum efficiency of APD’s is much higher than a pm’s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~80%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Especially at the higher wave length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surviving after traversing the fi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4876560" y="1371600"/>
            <a:ext cx="1981080" cy="20574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ibre/Scintillator cosmic ray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4665960" cy="3044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3448080" cy="3538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50280" y="1386000"/>
            <a:ext cx="501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nserted looped 15.7m long fibre in 60 cm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VC tube filled with liquid scintil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xposed to cosmic r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320" y="4952880"/>
            <a:ext cx="255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asured 20 p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 mip signal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far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819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400800" y="220932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99080" y="6172200"/>
            <a:ext cx="44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sic for APD’s: 2.5 pe noise  </a:t>
            </a:r>
            <a:r>
              <a:rPr b="1" lang="en-US" sz="20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S/N ~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67920" y="4510080"/>
            <a:ext cx="26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0    20    40    60    80 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lf Block Prototype Being Built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 Argon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14400" y="1843200"/>
            <a:ext cx="55152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05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5168880"/>
            <a:ext cx="9144000" cy="133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267080" cy="4057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4640" y="1932120"/>
            <a:ext cx="371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urface detector with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3m overbu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o reduce the em compon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of cosmic r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429000" y="1523880"/>
            <a:ext cx="2133720" cy="99072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943240" y="5331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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scr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6025" t="9029" r="6837" b="3765"/>
          <a:stretch/>
        </p:blipFill>
        <p:spPr>
          <a:xfrm>
            <a:off x="0" y="463680"/>
            <a:ext cx="5486400" cy="3987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9285" t="8333" r="15001" b="1191"/>
          <a:stretch/>
        </p:blipFill>
        <p:spPr>
          <a:xfrm>
            <a:off x="4114800" y="3166920"/>
            <a:ext cx="5029200" cy="3605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36520" y="949320"/>
            <a:ext cx="93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87360" y="3657600"/>
            <a:ext cx="95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1040" y="4572000"/>
            <a:ext cx="376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lectrons shower: many hits/pl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uons do not: just one hit/pl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90720" y="4038120"/>
            <a:ext cx="609480" cy="8384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33920" y="5486400"/>
            <a:ext cx="1295280" cy="4572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5867280"/>
            <a:ext cx="33530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 background rejec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1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utral Current background: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6412" t="9029" r="6154" b="3765"/>
          <a:stretch/>
        </p:blipFill>
        <p:spPr>
          <a:xfrm>
            <a:off x="1219320" y="1066680"/>
            <a:ext cx="6476760" cy="4692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85800" y="5943600"/>
            <a:ext cx="7391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ok like electrons and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C, if two photons are not recogniz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C background  rejection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3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MINOS/NO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Neutrino beam: NU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2287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1406520" cy="2698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438280" y="2978280"/>
            <a:ext cx="6705720" cy="3678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47600" y="5410080"/>
            <a:ext cx="23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horn and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hange energ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209680" y="4952880"/>
            <a:ext cx="53352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523880" y="1905120"/>
            <a:ext cx="38124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FF-AXIS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495680" cy="2286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28600" y="4267080"/>
            <a:ext cx="434340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ino Energy Spectrum is narrow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xpect 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cc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hoose the off-axis angl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the mean energy of the be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ptimiz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oscillation probabi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648320" y="609480"/>
            <a:ext cx="4582440" cy="1245960"/>
            <a:chOff x="4648320" y="609480"/>
            <a:chExt cx="4582440" cy="1245960"/>
          </a:xfrm>
        </p:grpSpPr>
        <p:sp>
          <p:nvSpPr>
            <p:cNvPr id="184" name=""/>
            <p:cNvSpPr/>
            <p:nvPr/>
          </p:nvSpPr>
          <p:spPr>
            <a:xfrm>
              <a:off x="5555520" y="1632600"/>
              <a:ext cx="565920" cy="2228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4120" y="1688400"/>
              <a:ext cx="188280" cy="111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28000" y="1688400"/>
              <a:ext cx="189000" cy="111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8320" y="1743840"/>
              <a:ext cx="419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84560" y="1717200"/>
              <a:ext cx="75600" cy="554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26520" y="968400"/>
              <a:ext cx="263880" cy="498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819400" y="1244880"/>
              <a:ext cx="2720520" cy="443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50880" y="1499400"/>
              <a:ext cx="13680" cy="246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0" y="0"/>
                  </a:moveTo>
                  <a:cubicBezTo>
                    <a:pt x="6" y="38"/>
                    <a:pt x="13" y="76"/>
                    <a:pt x="15" y="111"/>
                  </a:cubicBezTo>
                  <a:cubicBezTo>
                    <a:pt x="17" y="146"/>
                    <a:pt x="13" y="179"/>
                    <a:pt x="10" y="2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21760" y="1357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0640" y="1440720"/>
              <a:ext cx="58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Targ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21000" y="145260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Hor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57680" y="136116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Decay Pi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3800" y="60948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MS PGothic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64160" y="1743840"/>
              <a:ext cx="290520" cy="1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717800" cy="4724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106668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decay pions give simi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ino energies at the detect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632448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1371600"/>
            <a:ext cx="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495680"/>
            <a:ext cx="1828800" cy="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lan of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o we stand and what do we still need to meas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I 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present and futur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current user: MINOS. Present and expected perform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atus and sched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l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Neutrino Beam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04880" y="3657600"/>
            <a:ext cx="1789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= 0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3880" y="4800600"/>
            <a:ext cx="2257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Beam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~ 0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ajor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5343480" cy="4883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H="1">
            <a:off x="3124080" y="3962520"/>
            <a:ext cx="2819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800240" y="4648320"/>
            <a:ext cx="1676520" cy="38088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71760" y="1981080"/>
            <a:ext cx="990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Symbol"/>
                <a:ea typeface="Symbol"/>
              </a:rPr>
              <a:t></a:t>
            </a:r>
            <a:r>
              <a:rPr b="1" lang="en-US" sz="2000" spc="-1" strike="noStrike">
                <a:solidFill>
                  <a:srgbClr val="339933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3560" y="5791320"/>
            <a:ext cx="3181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ll have a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EA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measure thi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INOS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828800" y="1522440"/>
            <a:ext cx="6524640" cy="4535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64400" y="6172200"/>
            <a:ext cx="807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tudy of atmospheric mass region  through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dis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ar detector result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4640" y="5181480"/>
            <a:ext cx="253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Suppression of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at low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2895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5638680" cy="3863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flipH="1" flipV="1">
            <a:off x="1294920" y="3657240"/>
            <a:ext cx="304920" cy="16002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1520" y="838080"/>
            <a:ext cx="24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unoscil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447560" y="121932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886200" y="5181480"/>
            <a:ext cx="4952880" cy="1187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400800" y="914400"/>
            <a:ext cx="2558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w MINOS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0" y="502920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Experiment en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6781680" cy="4751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575360" y="5881680"/>
            <a:ext cx="450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Compatible with and comparable to 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More precise than K2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61600" y="3290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K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286000"/>
            <a:ext cx="1143000" cy="7621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MINOS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55720" y="1981080"/>
            <a:ext cx="7432560" cy="4114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660640" y="4724280"/>
            <a:ext cx="31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INOS bas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3.4 x 10</a:t>
            </a:r>
            <a:r>
              <a:rPr b="1" lang="en-US" sz="2800" spc="-1" strike="noStrike" baseline="30000">
                <a:solidFill>
                  <a:srgbClr val="00cc00"/>
                </a:solidFill>
                <a:latin typeface="Times New Roman"/>
              </a:rPr>
              <a:t>20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pots /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1160" y="5851440"/>
            <a:ext cx="294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mprovement by abou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factor of 3 in 3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419360" y="3581280"/>
            <a:ext cx="609480" cy="23623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Proton Beam as of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629400" cy="4000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flipH="1">
            <a:off x="6934320" y="3124080"/>
            <a:ext cx="914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19051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2.8 x 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p’s per spill               (2.2 se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590920"/>
            <a:ext cx="1447920" cy="259056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502920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For a Fermilab year of   2 x 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s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2.4 x 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0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pots/ye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(Achieved 1.27 x10</a:t>
            </a:r>
            <a:r>
              <a:rPr b="1" lang="en-US" sz="1600" spc="-1" strike="noStrike" baseline="30000">
                <a:solidFill>
                  <a:srgbClr val="3333ff"/>
                </a:solidFill>
                <a:latin typeface="Times New Roman"/>
              </a:rPr>
              <a:t>20</a:t>
            </a:r>
            <a:r>
              <a:rPr b="0" lang="en-US" sz="1600" spc="-1" strike="noStrike" baseline="30000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in first turn-on y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OS baseline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4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pots/year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47640" y="28954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~280 k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20574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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am after the collider shuts down (200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120" y="1233360"/>
            <a:ext cx="843804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o antiproton production batches in Main Inj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o downtime for preparing collider shot.  No time for antiproton trans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rom accumulator  to recycl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ransfer time of 12 booster batches to Main Injector (0.8 sec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nstead transfer them to recycler during Main Injector cycle, and then trans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n one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ew RF in main inj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Upgrade of NUMI targ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his should bring the Main Injector to a 1MW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st: 30-50 M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ROTONS: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.5 x 1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protons on target per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A gain of a factor of  &gt;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in numbers of protons deliv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am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0: Full shutdown to convert MI to 1 MW mach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1: 44 weeks running at 400 to 700 kW (Partial (5kT)detecto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: 38 weeks running at 700kW to 1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3 and beyond: 44 weeks at 1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0360" y="2743200"/>
            <a:ext cx="3704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Degradation factors assum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lerator uptime: 8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to peak intensity: 9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uptime: 9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4632480"/>
            <a:ext cx="5943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Running 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running as soon as 5kT instal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years to build up to full det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for 6 years from end of constr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otal: 60.3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p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ignal and background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% electron shower energy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5% muon energy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likelihood applied to events to separate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 from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ackgr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ields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3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fficiency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gnal events including fiducial in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 suppres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1E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3E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utral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ed Figure of Mer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Signal / sqrt(#bkd) =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gnal events for 6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t for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2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 events. (12 intrinsic beam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7 neutral curr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ignal and Background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stical Power: why this is hard and we need pro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94320" y="2338560"/>
            <a:ext cx="3951360" cy="2495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08040" y="2327400"/>
            <a:ext cx="3987720" cy="2517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1836720" y="2825640"/>
            <a:ext cx="279360" cy="254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5460840" y="2730600"/>
            <a:ext cx="279720" cy="3556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071720" y="5035680"/>
            <a:ext cx="3731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S=142.1,  B=1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S=  71.8,  B=1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27960" y="505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4160" y="58500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39040" y="4438800"/>
            <a:ext cx="422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            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4160" y="4430880"/>
            <a:ext cx="422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            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-family oscillation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915400" cy="1260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2160" y="1081080"/>
            <a:ext cx="21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sine  c = cos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040" y="3581280"/>
            <a:ext cx="8778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P viol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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rive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OLAR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oscillations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314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0.056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-0.04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+- 16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rive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TMOSPHERIC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scillation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44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0.18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-0.10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+44%   -2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cc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ISSING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link !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03</a:t>
            </a:r>
            <a:r>
              <a:rPr b="0" lang="en-US" sz="2800" spc="-1" strike="noStrike" baseline="30000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et by a reactor experiment: CHOO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ensitivity to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038480" cy="3992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 flipH="1">
            <a:off x="6095880" y="380880"/>
            <a:ext cx="15264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5715000"/>
            <a:ext cx="8763120" cy="990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rrelations are much reduced by running BOTH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Discovery limit 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etter than 0.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for ALL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’s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and BOTH mass hierarch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78560" y="3124080"/>
            <a:ext cx="1582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60.3 x 10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imes New Roman"/>
              </a:rPr>
              <a:t>20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p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47880" y="2819520"/>
            <a:ext cx="166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30.2 x 10 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imes New Roman"/>
              </a:rPr>
              <a:t>20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p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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(removes 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correl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29600" y="3429000"/>
            <a:ext cx="15228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29400" y="5867280"/>
            <a:ext cx="1522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parison to T2K and a Reactor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838320" cy="3809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3825720" cy="38098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277440" y="2590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T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281952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848720" y="1752120"/>
            <a:ext cx="0" cy="2971800"/>
          </a:xfrm>
          <a:prstGeom prst="line">
            <a:avLst/>
          </a:prstGeom>
          <a:ln w="381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1040" y="5181480"/>
            <a:ext cx="32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idwood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Double Cho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934320" y="49525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848720" y="480060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8120" y="4952880"/>
            <a:ext cx="25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T2K may not be la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048120" y="2971800"/>
            <a:ext cx="304560" cy="3808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87120" y="5791320"/>
            <a:ext cx="21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Not very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3440" y="5715000"/>
            <a:ext cx="385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Comparable t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Very sensitive reactor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5% CL Resolution of the θ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3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mbig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 rot="5400000">
            <a:off x="1939680" y="1869840"/>
            <a:ext cx="4425840" cy="4495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04920" y="914400"/>
            <a:ext cx="8610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ombining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ccelerator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experiments (sensitive to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θ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2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)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(2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θ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))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with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reactor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xperiments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ensitive to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(2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θ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))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5% CL Resolution of the Mass Ord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 rot="5400000">
            <a:off x="3665160" y="1744560"/>
            <a:ext cx="4937400" cy="49528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-10080" y="1752480"/>
            <a:ext cx="4246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ant to establish hierarch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er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f inverted next gene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ouble beta decay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an determine if the neutrino is 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wn antip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o measure CP vio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eed to remove hierarchy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because it contributes 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pparent CP vio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6360" y="5715000"/>
            <a:ext cx="3338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Will depend on value of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bining NOνA and T2K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 rot="5400000">
            <a:off x="2080800" y="1347480"/>
            <a:ext cx="4295880" cy="4343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705720" y="26668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Δ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.0030 eV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39760" y="5799240"/>
            <a:ext cx="455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ome improvement at high values of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δ vs. sin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2θ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) Contours for Test points: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ormal  Mass order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891240" cy="3810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52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mal Mass Ordering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93200" y="5943600"/>
            <a:ext cx="34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ome limited sensitivity at 1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ost and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685440"/>
            <a:ext cx="8076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 cost (Far and near detectors, building, admin etc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26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M$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(including 57 M$ contingenc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roved by Fermilab Program Advisory Committee: Stage 1 Approval, (April 200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oritized by NuSA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ommended by P5 for construction start in Fiscal Year 2008 (October 200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tical Decision Zero (CD0) granted. Mission ne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tained CD1 approval:  Range of Schedules and co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D2 next end 2006(?): Final cost, schedule and TD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nted $10M in R&amp;D for generic oscillation experi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on Driver CD0 shelved at this stage. But R&amp;D can continu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ernative plans for Main Injector upgrade to 1 MW, maybe 1.2 M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                                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umption:  Approval early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200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ing ready: June 2009. (Agreement with U. of Minnesot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ve kilotons: Early 201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tion: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20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 US programme: Accelerators 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iBooN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e Fermilab boos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SND observation this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energy data already presen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ciBo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K2K SciBar det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MiniBooNE bea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energy cross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ERV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low energy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ar hall of NUMI b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ing through appr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733560" cy="3032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4181400" y="5029200"/>
            <a:ext cx="4962600" cy="15638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 flipV="1">
            <a:off x="4038480" y="2057400"/>
            <a:ext cx="990720" cy="9144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5486400"/>
            <a:ext cx="685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US programme: Accelerators I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2K 280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Participation in 280m near detector sup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tector inside the UA1/NOMAD magnet for the near detector          and work on b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2K 2K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icipation in Water Cerenkov, civil engineering and liquid argon (150 ton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t  later stage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quid argon R&amp;D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determine whether scalable to tens of kilot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US programme: Double –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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c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 rot="5400000">
            <a:off x="2813400" y="-908640"/>
            <a:ext cx="3364200" cy="8686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719960" y="5410080"/>
            <a:ext cx="334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SAG recommend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mmended the first th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3560" y="5181480"/>
            <a:ext cx="3274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X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Potential for reduc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extracting and identify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ing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ariu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a second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3160" y="3048120"/>
            <a:ext cx="75960" cy="22096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276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ass hierarchy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ign of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35280" y="1676520"/>
            <a:ext cx="76212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73160" y="1676520"/>
            <a:ext cx="76212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0880" y="1676520"/>
            <a:ext cx="1522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0200" y="464832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83000" y="464832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0880" y="464832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0200" y="426708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426708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0880" y="426708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16560" y="4648320"/>
            <a:ext cx="76212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54800" y="4648320"/>
            <a:ext cx="76176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02160" y="4648320"/>
            <a:ext cx="15264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1480" y="167652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64280" y="167652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02160" y="167652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1480" y="205740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64280" y="205740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02160" y="205740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7360" y="4114800"/>
            <a:ext cx="6098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69080" y="1523880"/>
            <a:ext cx="46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78680" y="1523880"/>
            <a:ext cx="533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5000" y="449568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058760" y="2057040"/>
            <a:ext cx="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058760" y="3581280"/>
            <a:ext cx="792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57600" y="2971800"/>
            <a:ext cx="15552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7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221680" y="236196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2320" y="2666880"/>
            <a:ext cx="15552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7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464832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219320" y="441936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7800" y="1295280"/>
            <a:ext cx="1200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2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7.9 x 10 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12200" y="198108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612200" y="182844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87760" y="16765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649680" y="16765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65320" y="176688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5 e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25000" y="1066680"/>
            <a:ext cx="62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 Hierarchy                               Inverted 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30208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cillations only tell us abou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DIFFEREN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m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the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BSOL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ss scale: Direct measurements or Doub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per limit: Tritium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ay: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ass (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) &lt;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2 e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limit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7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&gt;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0.05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00" y="4191120"/>
            <a:ext cx="1200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2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7.9 x 10 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29600" y="396252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380880"/>
            <a:ext cx="3049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380880"/>
            <a:ext cx="30492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380880"/>
            <a:ext cx="30492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3049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3049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20240" y="30492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US programme: Rea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SAG recommended a US experiment to get down to a sensitivit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~0.01.  Both Daya Bay and Braidwood had this potent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OE has stopped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raidwo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encouraged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aya B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SAG encouraged participation in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ouble Choo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t with lower scientific priority because of its lower rea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OE does not go along with this but possibly the NSF wi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ery Long baseline: New NuSAG cha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a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eler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baselines: Compare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800k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1300-2800k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lines: Fermilab or Brookhaven to new  Underground site at Henderson or Homesta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 of detectors: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Liquid Arg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ater Cerenko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Bro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nd: covering several oscillation maxima at once or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nar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itivity and physics program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t BNL/FNAL study currently being carried out on these iss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: Oct.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4000" spc="-1" strike="noStrike">
                <a:solidFill>
                  <a:srgbClr val="339933"/>
                </a:solidFill>
                <a:latin typeface="Times New Roman"/>
              </a:rPr>
              <a:t>Extra Sl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ost break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85800" y="1981080"/>
          <a:ext cx="7772400" cy="4348440"/>
        </p:xfrm>
        <a:graphic>
          <a:graphicData uri="http://schemas.openxmlformats.org/drawingml/2006/table">
            <a:tbl>
              <a:tblPr/>
              <a:tblGrid>
                <a:gridCol w="4078440"/>
                <a:gridCol w="1769760"/>
                <a:gridCol w="1924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g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Cost M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r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e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ics and DA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i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l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ar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ding and outfit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Additional conting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6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ar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8229240" cy="457200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VC modu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assemb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8.782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quid Scintilla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hand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30.309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ve-length shifting fi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7.430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ics, Trigger,DA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3.412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ear Detector in MINOS Surface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57080" y="5562720"/>
            <a:ext cx="236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,000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C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485400" y="5562720"/>
            <a:ext cx="218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20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C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32120" y="1600200"/>
            <a:ext cx="43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5 x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t in 75 mrad off-axis 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83080" y="20574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Kaon 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809880" y="2514600"/>
            <a:ext cx="60984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8001000" cy="3240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H="1">
            <a:off x="3352320" y="2438280"/>
            <a:ext cx="685800" cy="3812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nfirmed by KAMLAND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eactor antineutrinos to detector at Kami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5562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589720" cy="4210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 flipV="1">
            <a:off x="1828800" y="4267080"/>
            <a:ext cx="1295280" cy="7632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7640" y="3824280"/>
            <a:ext cx="146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S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7432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KAM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410080" y="3276720"/>
            <a:ext cx="1905120" cy="53316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3640" y="6040440"/>
            <a:ext cx="55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KamLAND + Solar   Completely 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w MINOS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391160" cy="47703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12080" y="481500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Experiment en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28954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hy are neutrino masses so low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rcRect l="0" t="3178" r="0" b="0"/>
          <a:stretch/>
        </p:blipFill>
        <p:spPr>
          <a:xfrm>
            <a:off x="4267080" y="228600"/>
            <a:ext cx="4006800" cy="6400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048120" y="3657600"/>
            <a:ext cx="1752480" cy="1219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ther p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2680" y="1676520"/>
            <a:ext cx="144792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9000" y="4572000"/>
            <a:ext cx="26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scinating 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5562720"/>
            <a:ext cx="407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limit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4 x 10-3)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&gt; 0.05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D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d with light equivalent to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p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05480" y="3429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6600" y="4876920"/>
            <a:ext cx="242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ignal well separ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rom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91120" y="5943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56560" y="5981760"/>
            <a:ext cx="44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0           20          40          60         80      pe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5429160" cy="3429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2666880" y="365760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562720" y="2133720"/>
            <a:ext cx="380880" cy="190476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781320" y="2209680"/>
            <a:ext cx="381240" cy="22860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’s needed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mass hierarc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P violation in the neutrino se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ummary of backgr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685800" y="1143000"/>
          <a:ext cx="7772400" cy="41907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r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Err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m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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2361600" y="5791320"/>
            <a:ext cx="3155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Efficiency for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signal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8-fold degenera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- 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ambiguity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Mass hierarchy two-fold degene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degeneracy: For a value of sin2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2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, say 0.92, 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can be 33.5</a:t>
            </a:r>
            <a:r>
              <a:rPr b="0" lang="en-US" sz="2000" spc="-1" strike="noStrike" baseline="30000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or 56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2895480" cy="2853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3205080" cy="35816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276720" y="2438280"/>
            <a:ext cx="281916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 measure of P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can yield a whole range of values of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easuring with 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’s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as well reduces the cor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467480" y="28195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29400" y="4114800"/>
            <a:ext cx="129528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05520" y="3429000"/>
            <a:ext cx="152280" cy="0"/>
          </a:xfrm>
          <a:prstGeom prst="line">
            <a:avLst/>
          </a:prstGeom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5791320"/>
            <a:ext cx="794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will most probably run first 3 years wit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en 3 more wit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ill also improve the complementarity with T2K if they ru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867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road a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947960" y="1981080"/>
            <a:ext cx="52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rticle Physics Projects Prioritization Panel (P5)  June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686800" cy="10447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8915400" cy="27525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750680" y="2895480"/>
            <a:ext cx="41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ctober 2007 -&gt; Octo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533520" y="2285640"/>
            <a:ext cx="1295280" cy="6858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itial Tests Using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trusions from Existing Die (Smal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638680" y="990720"/>
            <a:ext cx="2819520" cy="2803320"/>
            <a:chOff x="5638680" y="990720"/>
            <a:chExt cx="2819520" cy="2803320"/>
          </a:xfrm>
        </p:grpSpPr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5638680" y="990720"/>
              <a:ext cx="2819520" cy="28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7389720" y="273096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48 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011280" y="2032200"/>
              <a:ext cx="2372400" cy="1594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4" name="" descr=""/>
          <p:cNvPicPr/>
          <p:nvPr/>
        </p:nvPicPr>
        <p:blipFill>
          <a:blip r:embed="rId2"/>
          <a:srcRect l="0" t="8136" r="8309" b="0"/>
          <a:stretch/>
        </p:blipFill>
        <p:spPr>
          <a:xfrm>
            <a:off x="152280" y="3886200"/>
            <a:ext cx="5257800" cy="28209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057400" y="4343400"/>
            <a:ext cx="24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asured light yie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93840" y="4038840"/>
            <a:ext cx="32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= 80 exp(-L/4.6)+10 exp(-L/500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55520" y="1417680"/>
            <a:ext cx="4043520" cy="1568520"/>
            <a:chOff x="155520" y="1417680"/>
            <a:chExt cx="4043520" cy="1568520"/>
          </a:xfrm>
        </p:grpSpPr>
        <p:pic>
          <p:nvPicPr>
            <p:cNvPr id="388" name="" descr=""/>
            <p:cNvPicPr/>
            <p:nvPr/>
          </p:nvPicPr>
          <p:blipFill>
            <a:blip r:embed="rId3"/>
            <a:stretch/>
          </p:blipFill>
          <p:spPr>
            <a:xfrm>
              <a:off x="155520" y="1417680"/>
              <a:ext cx="4043520" cy="15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856520" y="220680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4.2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18640" y="20779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2.2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28720" y="2519280"/>
              <a:ext cx="835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62480" y="1998720"/>
              <a:ext cx="0" cy="56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406480" y="471312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metry gives factor of 1.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70440" y="498780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3 pe goes to 23 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22320" y="560232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flectivity gives factor of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15080" y="58881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3 pe goes to 27 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3440" y="2895480"/>
            <a:ext cx="201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3.87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m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6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i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2057040" y="2590920"/>
            <a:ext cx="1066680" cy="380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2971800" y="2438280"/>
            <a:ext cx="1447920" cy="6098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91120" y="3581280"/>
            <a:ext cx="419076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48560" y="618660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itanium diox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76160" y="476568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 p.e. at 15.7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19720" y="5181480"/>
            <a:ext cx="38088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ar Detector Assemb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6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 has 64 (31-plane)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fill with scintillator and run during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Size planes built &amp; tested at Argo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4267080" cy="29415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1523880" y="4267080"/>
            <a:ext cx="6742080" cy="1944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371600" y="175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00800" y="342900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15360" y="35416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1-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41400" y="1676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-cm expa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ion 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772400" y="327672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774200" y="34290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1-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543440" y="2362320"/>
            <a:ext cx="30492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ear Detector to understand the b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46840" cy="46926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6477120" y="6858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62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5 T totally 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.4 T fidu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entral 2.5 x 3.25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914400"/>
            <a:ext cx="15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plane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6 T 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6 T emp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30840" y="39625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uon cat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1 m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01680" y="51814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Target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76000" y="5599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Veto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49920" y="18288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9.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21120" y="3733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754640" y="5562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.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1676520" y="1523880"/>
            <a:ext cx="3657600" cy="1447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57400" y="5181480"/>
            <a:ext cx="990720" cy="9144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124080"/>
            <a:ext cx="457200" cy="1981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3276720" y="5791320"/>
            <a:ext cx="91440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3886200" y="5257440"/>
            <a:ext cx="914400" cy="152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4952520" y="4648320"/>
            <a:ext cx="30492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472428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hower containment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6248520" y="3733920"/>
            <a:ext cx="30456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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10280" cy="46418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676160" y="182880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sh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05160" y="190512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sh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28440" y="42670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u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57440" y="43434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u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132280" y="914400"/>
            <a:ext cx="14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Low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0920" y="914400"/>
            <a:ext cx="14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igh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5638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6880" y="5638680"/>
            <a:ext cx="4876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 background rejection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1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ear detector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14605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6613200" y="623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Site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990720"/>
            <a:ext cx="7632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1219320" y="2232000"/>
            <a:ext cx="5943600" cy="45878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 flipH="1">
            <a:off x="5105160" y="1523880"/>
            <a:ext cx="2514600" cy="28958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809880" y="1447920"/>
            <a:ext cx="3276720" cy="396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276720" y="1219320"/>
            <a:ext cx="3047760" cy="464796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86000" y="1295280"/>
            <a:ext cx="457200" cy="44197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04400" y="32148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Times New Roman"/>
              </a:rPr>
              <a:t>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3581280"/>
            <a:ext cx="76320" cy="76212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1447920"/>
            <a:ext cx="380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-129600" y="1558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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ollaboration consists of 142 physicists and engineers from 28 institu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gonne, Athens, Caltech, College de France, Fermilab, Harvard, Indiana, ITEP, Michigan State, Minnesota-Twin Cities, Minnesota-Duluth, Northern Illinois, Ohio, Ohio State, Oxford, Rutherford, Rio de Janeiro, South Carolina, SMU, Stanford, Texas, Texas A&amp;M, Tufts, UCLA, Virginia, Washington, William and 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ve Italian universities with about 20 senior physicists are actively discussing joining 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ts main physics goal will be the study o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ν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→ν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oscillations at the atmospheric oscillation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orrelations in Oscillation Prob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7640" y="8380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rom M. Lindn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7315200" cy="896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7315200" cy="2768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4800600"/>
            <a:ext cx="861084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ing P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oe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ield a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UNI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 of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of correlations between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CP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ass hierarchy (sign of </a:t>
            </a: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CP violation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: Difference betwe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ino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ineutrino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sci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ass hierarchy accessible through Matter eff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09480" y="3276360"/>
            <a:ext cx="1143000" cy="24382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67080" y="4114440"/>
            <a:ext cx="2133720" cy="243828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nergy dependence of matte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vacuum and without CP viol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P(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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vac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= sin</a:t>
            </a:r>
            <a:r>
              <a:rPr b="0" lang="en-GB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23 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0" lang="en-GB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2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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0" lang="en-GB" sz="2800" spc="-1" strike="noStrike" baseline="30000">
                <a:solidFill>
                  <a:srgbClr val="3333ff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Times New Roman"/>
              </a:rPr>
              <a:t>atm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= 1.27 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Times New Roman"/>
              </a:rPr>
              <a:t>32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(L/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be at maximum oscillation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at L = 800km    E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ust be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1.64 GeV,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at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L = 295km    E = 0.6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ing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mat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ffects, at the first oscillation maximum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     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P(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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mat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= [1 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+-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(2E/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GB" sz="2800" spc="-1" strike="noStrike" baseline="-25000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] P(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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GB" sz="2000" spc="-1" strike="noStrike" baseline="-25000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= [12 GeV][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Times New Roman"/>
              </a:rPr>
              <a:t>32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/(2.7x10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-3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)][2.8 gm.cm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-3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/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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]~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12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             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+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ends on the mass hierarch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tter effects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gro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ith energy and therefore with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dist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imes larger (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27%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 at NO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1.64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GeV) than at T2K (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0.6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886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NO</a:t>
            </a:r>
            <a:r>
              <a:rPr b="0" lang="en-US" sz="4000" spc="-1" strike="noStrike">
                <a:solidFill>
                  <a:srgbClr val="ff0066"/>
                </a:solidFill>
                <a:latin typeface="Symbol"/>
                <a:ea typeface="Symbol"/>
              </a:rPr>
              <a:t>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A Det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838080"/>
            <a:ext cx="8686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iven relatively high 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f NUMI beam, decided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ptimize NO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solution of the mass hierarch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 as high in energy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o keep L/E constant at 2.7 x 10</a:t>
            </a:r>
            <a:r>
              <a:rPr b="0" lang="en-US" sz="2000" spc="-1" strike="noStrike" baseline="30000">
                <a:solidFill>
                  <a:srgbClr val="3333ff"/>
                </a:solidFill>
                <a:latin typeface="Times New Roman"/>
              </a:rPr>
              <a:t>-3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V</a:t>
            </a:r>
            <a:r>
              <a:rPr b="0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 as far as possible, but remain in 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t Ash River near Canadian border (L =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810km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ew site. Above gro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etector placed 14 mrad (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2 km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) Off-axis of the Fermilab NUMI beam  (MIN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6850080"/>
            <a:ext cx="1066680" cy="7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1337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31240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9625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1219320"/>
            <a:ext cx="447192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4:45:39Z</dcterms:created>
  <dc:creator>Camilleri Leslie Loris</dc:creator>
  <dc:description/>
  <dc:language>en-US</dc:language>
  <cp:lastModifiedBy>llc</cp:lastModifiedBy>
  <dcterms:modified xsi:type="dcterms:W3CDTF">2006-10-03T19:52:20Z</dcterms:modified>
  <cp:revision>188</cp:revision>
  <dc:subject/>
  <dc:title>Cosmic calibration</dc:title>
</cp:coreProperties>
</file>